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F3D-86C7-4845-8D89-72C5788D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52C-BAFB-4F15-BF91-51ECE1A0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55A-C15C-472C-8B50-C872FB76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671-72FA-4C74-99B6-74A06974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218A-7B96-4C9D-BA22-2880051E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1C7-7244-4093-84DC-AF5DD486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E9E-D21C-4CB7-B9E2-780D91B6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E9AA-CA7A-4461-9FB7-E0FFA0F4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3D7-3A91-4479-A892-BFB7E6B5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6F4-472B-4A38-98ED-AF4FA924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71A-2018-4D3D-ACC1-00C7F745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C19-1262-4FC0-9964-7E1FC056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B9D3-69B2-40AE-A8C4-B3A515757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методолошке валидности и клиничке значајности студ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</a:t>
            </a:r>
            <a:r>
              <a:rPr b="0" i="1" lang="en-US" sz="3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-</a:t>
            </a:r>
            <a:r>
              <a:rPr b="0" i="1" lang="sr-RS" sz="3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Увод у фармацеутску пракс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терапијског поступ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експериментална и контролна груп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е третиране исто сем третмана који се испиту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студија бил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струко слеп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при извођењу закључ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пацијенти узети у обзи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(20%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пацијенти анализирани у групама у којима су били на почетку истраживањ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терапијског посту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0500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о смањење риз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лутно смањење риз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болесника које треба лечити новим леком (number needed to tre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о смањење ризика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 ризика за појаву лошег исхода лечења у експерименталној (ЕЕ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контролној групи (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R= EER/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лутно смањење ризика – разлика између појаве лошег исхода лечења након примене нове терап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ER - Experimental Event Rate)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изика појаве исхода лошег исхода лечења након примене већ испробане терап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ER - Control Event Rate)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=EER-C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болесника које треба лечити новим леком да би се код једног од њих избегао лош исход 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needed to tre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NT=1/A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цени валидности студије дијагностичког теста неопходно је тражити потврдан одговор на следећа питањ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а ли су резултати дијагностичког теста испитиваног у студиј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но и слеп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ређени с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атним стандардом дијагнозе обоље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а ли је испитивани дијагностички тест испитан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говарајућем спектру пацијена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а ли је златни стандард употребљен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 резултата дијагностичког тес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а популација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 у различитим стадијумима боле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а различитом клиничком сликом, нелечени пацијенти, предходно лечени пацијенти, пацијенти са сличним обољењем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 и здрави део популац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 дијагностички поступак има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иничку значајнос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након његове примене вероватноћа да пацијент има неку болест значајно већа него пре његове при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прерачунати следеће параметре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зитивност, специфичност, предиктивну вредност теста и однос могућ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зитивно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ценат болесника код којих је тест позитив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ценат здравих особа код којих је тест негатив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дијагностичког поступ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процене валидности треба утврдити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 тес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а ли је економска страна прихватљива за пацијента, да ли ће примењени тест променити исход лечења, да ли ће пацијент прихватити извођење тес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и како тражимо одговоре на питања која постављамо током третмана болесни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аза - Претрага база података на Интернету које садрже систематске прегледне чланке о клиничком проблему који нас интересује.(Cochrane database of systematic reviews, MED-LINE 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прогностичког фак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стички факт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вака особеност пацијента која може имати утицај на ток и природу обољењ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критеријуми с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езентативност узо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узо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 временског интервала током којег су праћени пацијен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прогностичког фак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љени губитак пацијената – до 2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 обољења је неопходно објективно утврди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ск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но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ђен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тудија има добро дефинисани економски ци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упоређује добро дефинисане алтернативне поступке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јагностичке или терапијске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дефинише гледиште са кога се спроводи анализ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тудија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ира добре доказе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ефикасности алтернати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у студији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овани сви релевантни трошкови и ефект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е резултати могу применити на нашег пацијен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 је прилагодити економске студије рађене у другим земљама, пре свега за цене здравствених ус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е здравствених услуга су у Србији од 10 до 100 пута ниже од цене у развијеним земљ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 података за цене у Србији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фна књига РФЗО-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резултати економске студије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ујући трошкови или трошкови по јединици мерења импресив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е закључци студије мењају ако се у реалним границама мењају цене лечења или ефек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analys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анализа осетљив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нтна техника у фармакоекономији је студија испитивања односа трошкова и ефеката (eng. cost –effectiveness stu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о правило је да интервенције које се анализирају буду поредбене у сфери трошкова и ефектив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и како тражимо одговоре на питања која постављамо током третмана болесни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аза – Поступак са пронађеним публикацијама које су релевантне за питање које смо поставили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ацији у целини се детаљно анализирају у смислу утврђивања методолошке валидности и клиничке значај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и како тражимо одговоре на питања која постављамо током третмана болесни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ивање методолошке валидности и клиничке значајности се спроводи на основу критеријума који зависе од типа студије коју анализирамо: дијагностичка, терапијска студија, прогностичка студија фармакоекономска студија, систематски прегледни рад, мета анализа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ност и клинички значај систематског прегледног чла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стематски прегледни чланак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 и анализира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е објављених клиничких студија и мета анализ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а циљем да читаоцу представи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арну слику о неком терапијском поступку или дијагностичком тест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а анализ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страживање у којем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 из више појединачних клиничких студија истог лека се сумирају и статистичкиобраде, тако као да је рађена једна велика клиничка студ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ност и клинички значај систематског прегледног чла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резултате представљене у систематском прегледном чланку могли прихватити као валидне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да систематски прегледни чланак буде резултат детаљне претраге свих значајних база подата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е валидности клиничке значајности исти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обухватају само оне студије које испуњавају критеријуме валид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ност и клинички значај систематског прегледног чла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систематског прегледног чланка у смислу процене његове валидности подразумева постојање дела 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лу МЕТОД аутори морају детаљно навести начин претраге, критеријуме које су користили за процену валидности и клиничку значајност пронађених публикациј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дељка МЕТОД мор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 јасно шта од публикација је укључено у даљу анализу и извођење закључ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ност и клинички значај систематског прегледног чла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ски прегледни чланак који испуњава критеријуме валидности критички анализира тему којом се бави и на транспарентан начин и независно од спољних чиниоца обрађује и процењује резултате клиничких студ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јуми за анализу валидности и клиничке значајности студија терапијског поступ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пацијент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м случајног избо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рстани у контролну и експерименталну груп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су контролна и експериментална груп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е по свему сем по испитиваном ле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07:57:08Z</dcterms:created>
  <dc:creator>Marina Kostic</dc:creator>
  <dc:description/>
  <dc:language>en-US</dc:language>
  <cp:lastModifiedBy>Marina Kostic</cp:lastModifiedBy>
  <dcterms:modified xsi:type="dcterms:W3CDTF">2023-09-11T10:15:06Z</dcterms:modified>
  <cp:revision>33</cp:revision>
  <dc:subject/>
  <dc:title>Анализа методолошке валидности и клиничке значајности студија</dc:title>
</cp:coreProperties>
</file>